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CA09-766B-4CC6-BE54-FF605EF3A7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6470-0C60-4EB4-8EDE-943BB2D5BF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398F-44E4-4A7F-A8BF-23B1D9AA8B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618C-6045-4C9F-AE16-533D2D69071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427040"/>
            <a:ext cx="705816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eryfikacja postępowania o udzielenie zamówienia publicznego przeprowadzonego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w trybie ustawy Prawo zamówień publicznych,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zgodnie z zasadami konkurencyjności przed wnioskiem o płatność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42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Łódź, 24/25 listopada 2016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611280" y="184464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1"/>
          <p:cNvSpPr/>
          <p:nvPr/>
        </p:nvSpPr>
        <p:spPr>
          <a:xfrm>
            <a:off x="826920" y="1844640"/>
            <a:ext cx="739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zawiera braki, Samorząd Województwa wzywa Beneficjenta w formie pisemnej do ich usunięcia w terminie 7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istnieje konieczność uzyskania wyjaśnień, Samorząd Województwa wzywa Beneficjenta do udzielenia wyjaśnień  w terminie 7 dni od dnia doręczenia wezwania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zwania, o których mowa oraz przypadki, gdy w trakcie oceny postępowania niezbędne jest uzyskanie opinii innego podmiotu lub wystąpienie o kontrolę doraźną do Prezesa Urzędu Zamówień Publicznych, wydłużają termin dokonania oceny, o czas niezbędny do usunięcia braków/składania wyjaśnień oraz o czas niezbędny do uzyskania opinii lub wyników kontroli doraźnej, o czym Samorząd Województwa informuje Beneficjenta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Jeżeli Beneficjent, nie złożył wymaganych dokumentów w terminie, Samorząd Województwa dokonuje oceny w oparciu o posiadane dokume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468360" y="47628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fertowego zgodnie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 zasadami konkurencyjności przed wnioskiem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 płatn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2"/>
          <p:cNvSpPr/>
          <p:nvPr/>
        </p:nvSpPr>
        <p:spPr>
          <a:xfrm>
            <a:off x="755640" y="1844640"/>
            <a:ext cx="7632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sady konkurencyjności wydatków w ramach PROW 2014-2010  określa § 7 umowy o przyznaniu pomocy oraz załącznik nr 3 do umowy o przyznaniu po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, zgodnie z umową, składa dokumentację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826920" y="561960"/>
            <a:ext cx="739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1"/>
          <p:cNvSpPr/>
          <p:nvPr/>
        </p:nvSpPr>
        <p:spPr>
          <a:xfrm>
            <a:off x="539640" y="1844640"/>
            <a:ext cx="7683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7 umowy o przyznaniu pomocy  okreś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- § 7 ust. 5 umowy dopuszcza możliwość ponownego przeprowadzenia postępowania ofertowego i złożenia dokumentacji z ponownie przeprowadzonego postępowania ofertowego, która go dotyczy wra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nioskiem 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ofertowego i złożenia dokumentacji z ponownie przeprowadzonego postępowania, która go dotyczy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zawarł umowę z wykonawcą i przekazał ją z dokumentacją lub przekazał inny dokument kupna/sprzedaży potwierdzający, że nabycie usługi lub dostawy zostało dokonane, nie ma możliwości ponownego przeprowadzenia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2"/>
          <p:cNvSpPr/>
          <p:nvPr/>
        </p:nvSpPr>
        <p:spPr>
          <a:xfrm>
            <a:off x="684360" y="1844640"/>
            <a:ext cx="7848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przez Beneficjenta dokumentacji związanej z przeprowadzonym postępowaniem ofertowym potwierdzającym wybór najkorzystniejszej oferty możliwe jest najwcześniej w dniu zawarcia umowy a jednocześnie nie później niż w terminie 4 miesięcy przed pierwszym dniem terminu na złożenie wniosku o płatno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tym etapie możliwe jest również złożenie umowy z wykonawcą, o ile została zaw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z wykonawcą zamówienia, w przypadku gdy przedmiotem zamówienia są roboty budowlane, zawierana jest w formie pisemnej a w przypadkach pozostałych zamówień potwierdzeniem zawarcia umowy jest co najmniej oryginał stosownego dokumentu potwierdzającego dokonanie sprzedaży lub wykonanie usługi, zawierającego szczegółowe dane o transak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539640" y="1773360"/>
            <a:ext cx="806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łożona przez Beneficjenta zostanie oceniona przez Samorząd Wojewódz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30 dni od dnia jej złoż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Beneficjent złoży dokumentację z naruszeniem powyższego termin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nie zostanie oceniona  w trybie przewidzianym umow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ostanie oceniona na etapie wniosku o płatność, o ile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 nie zostanie złożona nowa dokumentacja z postępow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kiedy wraz z wnioskiem o płatność zostanie dostarczona nowa dokumentacj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ostępowania ofertowego, dokumentacja złożona z naruszeniem terminu pozostaje bez rozpozn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1"/>
          <p:cNvSpPr/>
          <p:nvPr/>
        </p:nvSpPr>
        <p:spPr>
          <a:xfrm>
            <a:off x="539640" y="1773360"/>
            <a:ext cx="799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lementy podlegające weryfikacji, wymagane załącznikiem nr 3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publicznienia zapytania ofertowego przez Beneficjenta – potwierdzenie udokumentowania publikacji zapytania ofertowego oraz modyfikacji treści zapyt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erty, które wpłynęły do Beneficjenta, w tym data wpływu ofert oraz dane, które stanowią odpowiedź na warunki udziału w postępowaniu i kryteria oceny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łnienie warunku braku powiązań osobowych i kapitałow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brana oferta wraz z uzasadnieniem wybo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odpowiedniego upublicznienia informacji o wyniku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ół z wyboru najkorzystniejszej of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1"/>
          <p:cNvSpPr/>
          <p:nvPr/>
        </p:nvSpPr>
        <p:spPr>
          <a:xfrm>
            <a:off x="684360" y="1844640"/>
            <a:ext cx="770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będzie zawierała braki lub uchybienia, Samorząd Województwa poinformuje Beneficjenta o zakresie braków lub uchybień wraz ze wskazaniem, iż w sytuacji zrealizowania zadania, w ramach którego koszty zostaną przedstawione do refundacji, na podstawie tak przeprowadzonego postępowania ofertowego, bez usunięcia tych braków lub uchybień, które go dotyczą, zastosowana zostanie kara administracyjna, zgodni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zasadami określonymi w załączniku nr 4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 udzielenie zamówienia publ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"/>
          <p:cNvSpPr/>
          <p:nvPr/>
        </p:nvSpPr>
        <p:spPr>
          <a:xfrm>
            <a:off x="468360" y="170028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w wyniku przeprowadzenia oceny postępowania o udzielenie zamówienia publicznego Samorząd Województwa stwierdzi, że Beneficjent naruszył przepisy ustawy Pzp, zostanie zastosowana kara administracyjna stosownie do załączników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a - 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 po wejści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 życie nowelizacji ustawy pz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naruszy zasady konkurencyjności wydatków określone w załączni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3 do umowy o przyznaniu pomocy, zostanie zastosowana kara administracyjna, stosownie do załącznika nr 4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kaźniki procentowe do obliczenia wartości kar administracyjnych za naruszenie zasad konkurencyjności wydatków w ramach PROW 2014-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dwołanie  od rozstrzygnię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az 4" descr=""/>
          <p:cNvPicPr/>
          <p:nvPr/>
        </p:nvPicPr>
        <p:blipFill>
          <a:blip r:embed="rId1"/>
          <a:stretch/>
        </p:blipFill>
        <p:spPr>
          <a:xfrm>
            <a:off x="6948360" y="5923080"/>
            <a:ext cx="30240" cy="439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3" descr=""/>
          <p:cNvPicPr/>
          <p:nvPr/>
        </p:nvPicPr>
        <p:blipFill>
          <a:blip r:embed="rId2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3" descr=""/>
          <p:cNvPicPr/>
          <p:nvPr/>
        </p:nvPicPr>
        <p:blipFill>
          <a:blip r:embed="rId3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1"/>
          <p:cNvSpPr/>
          <p:nvPr/>
        </p:nvSpPr>
        <p:spPr>
          <a:xfrm>
            <a:off x="811080" y="2205000"/>
            <a:ext cx="739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owi przysługuje jednorazowe prawo do wniesienia do SW prośby o ponowne rozpatrzenie sprawy wraz z uzasadnieniem w zakresie rozstrzygnięcia oceny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, w terminie 21 dni od dnia doręczenia Beneficjentowi pisma o danym rozstrzygnięciu (§ 18 umowy  o przyznanie pomoc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na rozpatrzenie odwołania ma 30 dni od dnia wniesienia prośby wraz z uzasadnien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Kwalifikowalność kosztów postępowania</a:t>
            </a:r>
            <a:r>
              <a:rPr b="1" i="1" lang="pl-PL" sz="2400" spc="-1" strike="noStrike">
                <a:solidFill>
                  <a:srgbClr val="00206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2060"/>
                </a:solidFill>
                <a:latin typeface="Century"/>
              </a:rPr>
              <a:t>2007-2013 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Diagram 5" descr=""/>
          <p:cNvPicPr/>
          <p:nvPr/>
        </p:nvPicPr>
        <p:blipFill>
          <a:blip r:embed="rId3"/>
          <a:stretch/>
        </p:blipFill>
        <p:spPr>
          <a:xfrm>
            <a:off x="639720" y="2803680"/>
            <a:ext cx="7675560" cy="1780920"/>
          </a:xfrm>
          <a:prstGeom prst="rect">
            <a:avLst/>
          </a:prstGeom>
          <a:ln w="0">
            <a:noFill/>
          </a:ln>
        </p:spPr>
      </p:pic>
      <p:pic>
        <p:nvPicPr>
          <p:cNvPr id="181" name="Grupa 17" descr=""/>
          <p:cNvPicPr/>
          <p:nvPr/>
        </p:nvPicPr>
        <p:blipFill>
          <a:blip r:embed="rId4"/>
          <a:stretch/>
        </p:blipFill>
        <p:spPr>
          <a:xfrm>
            <a:off x="5237280" y="2646360"/>
            <a:ext cx="424152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684360" y="1700280"/>
            <a:ext cx="790704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2 czerwca 2016 r. o zmianie ustawy – Prawo zamówień publicznych oraz niektórych innych ustaw (Dz.U. z 2016 r. poz. 102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rodzajów dokumentów, jakich może żądać zamawiający od wykonawcy w postępowaniu o udzielenie zamówienia (Dz. U. 2016, poz. 112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protokołu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 (Dz. U. 2016, poz. 11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00000" y="549360"/>
            <a:ext cx="633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zy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1280" y="2421000"/>
            <a:ext cx="808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jest poprawna pod względem przepisów ustawy Pzp oraz zasad konkurencyjności określonych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tępowanie o udzielenie zamówienia publicznego przeprowadzono z naruszeniem ustawy Pzp lub zasad konkurencyjności – na podstawie taryfikatora (załącznik nr 4, 5 i 5a) została nałożona korekta w wysokości niższej niż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1044720" y="571680"/>
            <a:ext cx="727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Nega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00040" y="1989000"/>
            <a:ext cx="795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nałożonych korekt administracyjnych zgodnie z załącznikiem nr 4 i 5 lub 5a do umowy o przyznaniu pomocy – zostanie nałożona korekta w wysokości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posiadanych dokumentów, stwierdzone zostanie takie naruszenie przepisów ustawy, które ma wpływ na wynik postępowania – a nie zostało objęte Taryfikator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4360" y="765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"/>
              </a:rPr>
              <a:t>Co wynika z rozporządzenia WOD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733320" y="1916280"/>
            <a:ext cx="7799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wysokości określonej w umowie o przyznaniu pomocy, jeżeli zostały poniesio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odnie z przepisami o zamówieniach publicznych, a gdy te przepisy nie mają zastosowania – w wyniku wyboru przez Beneficjenta wykonawców poszczególnych zadań ujęt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estawieniu rzeczowo-finansowym operacji z zachowaniem konkurencyjnego trybu ich wyboru określonego w umow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20 ust. 3 rozporządzenia wyłącza konieczność stosowania konkurencyjnego trybu wyboru wykonawców w stosunku do kosztów ogólnych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poniesion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ed dniem zawarcia umow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468360" y="1700280"/>
            <a:ext cx="8136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zobowiązany jest do ponoszenia wszystkich kosztów kwalifikowalnych z zachowaniem zasad równego traktowania, uczciwej konkurencji i przejrzystości zgodnie z przepisam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zamówieniach publicznych, a w przypadku gdy przepisy nie będą miały zastosowania,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 wartość danego zadania ujętego w zestawieniu rzeczowo-finansowym operacji przekracza 20.000 zł nett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a postępowania ofertowego i ponoszenia wszystkich kosztów kwalifikowalnych operacji zgodnie z zasadami określonymi w załączniku nr 3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osowanie zasad konkurencyjności wydatków w ramach PROW 2014-2020 obowiązuje beneficjentó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będących podmiotami zobowiązanymi do stosowania ustawy pzp -  w przypadku zamówień przekraczających wartość 20 000 zł netto, tj. bez podatku od towaru i usług (kościo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stowarzyszen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ch podmiotami zobowiązanymi do stosowania ustawy pzp - w przypadku zamówień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artości równej lub niższej wyrażonej w złotych równowartości kwoty 30.000 euro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jednocześnie przekraczającej 20 000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łącznik nr 3 określa również do jakich zamówień zasady konkurencyjności nie mają zastosowania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"/>
          <p:cNvSpPr/>
          <p:nvPr/>
        </p:nvSpPr>
        <p:spPr>
          <a:xfrm>
            <a:off x="468360" y="1844640"/>
            <a:ext cx="8136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§ 6 umowy o przyznanie pomocy okreś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dzaj i formę dokumentów jakie winien złożyć beneficj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zwrócenia się przez SW do Prezesa Urzędu Zamówień Publicznych o uzyskanie opinii w konkretnej sprawie oraz możliwość wystąpienia o kontrolę doraźn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3"/>
          <p:cNvSpPr/>
          <p:nvPr/>
        </p:nvSpPr>
        <p:spPr>
          <a:xfrm>
            <a:off x="539640" y="1844640"/>
            <a:ext cx="8064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, jeżeli przed jej zawarciem została zawarta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 z wykonawcą, jeżeli umowa z wykonawcą została zawarta po dniu zawarcia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później niż w dniu upływu terminu złożenia wniosku o płatność w przypadku, gdy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 została zawarta w terminie krótszym niż 30 dni przed upływem terminu złożenia wniosku o płatność, którego dotyczy postępowanie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1"/>
          <p:cNvSpPr/>
          <p:nvPr/>
        </p:nvSpPr>
        <p:spPr>
          <a:xfrm>
            <a:off x="539640" y="1844640"/>
            <a:ext cx="7632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dzaj i forma dokumentów jakie winien złożyć Beneficj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przedkłada SW dokumentację z przeprowadzonego postępowania o udzielenie zamówienia publicznego,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kumentacja  obejmu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przetargową, w tym ogłosz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biegu prac komisji przetarg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ofertę wybranego wykonawcy wraz z zawartą umową oraz formularze ofertowe pozostałych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odwołaniami, zapytaniami i wyjaśnieniami do siwz. jeżeli miały miejsce w danym postępowan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poważnienie do potwierdzania dokumentacji za zgodność z oryginałem dla osoby upoważnionej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dokumenty przetargowe, jeżeli zajdzie potrzeba ich zweryfikowania. c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kąt 3"/>
          <p:cNvSpPr/>
          <p:nvPr/>
        </p:nvSpPr>
        <p:spPr>
          <a:xfrm>
            <a:off x="468360" y="1789200"/>
            <a:ext cx="799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.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udzielania zamówienia publicznego w trybie zamówienia z wolnej ręki na podstawie art. 67 ust.1 pkt 4 ustawy pz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o wejściu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prowadzonego postępowania w trybie przetargu nieograniczonego lub ograniczo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zasadnienie faktyczne i prawne zaistnienia przesłanek do udzielenia zamówienia z wolnej ręki w trybie art. 67 ust.1 pkt 4 ustawy pz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rzed wejściem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oły z kolejno unieważnionych postępowań, zawierających podstawę prawn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uzasadnienie faktyczne (brak ofert lub wniosków o dopuszczenie do udziału w postepowani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unieważnionymi postępowaniami o udzielenie zamówienia publicznego (odrzucenie wszystkich ofert ze względu na ich niezgodność z siwz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611280" y="1916280"/>
            <a:ext cx="7848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dokona oceny postępowania o udzielenie zamówienia publiczn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60 dni robocz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 dnia złożenia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22T06:49:15Z</dcterms:modified>
  <cp:revision>613</cp:revision>
  <dc:subject/>
  <dc:title>Slajd 1</dc:title>
</cp:coreProperties>
</file>